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bmp" ContentType="image/bmp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ou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kunihiro@digital-magic.co.jp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gated is not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program (more than 100,000 lin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ard to understand, hard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task and memory management        (is it 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configuration change is not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query is very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ore gated ha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e process for each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mall, more simpl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and memory management get back to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ting protocol daemon and routing daemon makes distributed rou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under GP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aemons, is it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137160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08040" y="257508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2362320"/>
            <a:ext cx="137160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362320"/>
            <a:ext cx="137160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362320"/>
            <a:ext cx="137160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08240" y="257508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61080" y="257508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13560" y="2773440"/>
            <a:ext cx="1235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267080"/>
            <a:ext cx="69343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98960" y="4632480"/>
            <a:ext cx="108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495680"/>
            <a:ext cx="13716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89880" y="4479840"/>
            <a:ext cx="114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3886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4290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581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7339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 is first start point of distributed rou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 is a daemon that supports BGP-4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routing store facility, route flap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works as Route Server and Route Ref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perate with Routing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like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routing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-4 simulator                                          flapping simulating test                             BGP-4 configuration test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store full rout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M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 interactive query works                                      show ip bgp route x.x.x.x (/32)                        show ip bgp as-path ASN                                show ip bgp summary                               show ip bgp 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BGP-4 peering w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Pd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-list:                                                         majordomo@digital-magic.co.jp      subscribe bg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 ftp:                                         ftp://ftp.digital-magic.co.jp/pub/bg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ail:                        kunihiro@digital-magic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BGP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logging at NSPIXP-1 by BG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PFd, RIP2d, Routing Manager development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rd pfinet (TCP/IP translator) gateway cod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ƒ}ƒCƒNƒƒ\ƒtƒgŠ”Ž®‰ïŽÐ</dc:creator>
  <dc:description/>
  <dc:language>en-US</dc:language>
  <cp:lastModifiedBy>ƒ}ƒCƒNƒƒ\ƒtƒgŠ”Ž®‰ïŽÐ</cp:lastModifiedBy>
  <cp:revision>0</cp:revision>
  <dc:subject/>
  <dc:title>Distributed routing system</dc:title>
</cp:coreProperties>
</file>