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684-9ED8-472B-8542-79E4EA6C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4B8-9FB3-4CC8-9D83-A691BF5C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A8362-0927-453A-900E-A0BFEF7C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B4F17-D5E8-40CD-8166-0B4D7AB4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37FBE-7600-4476-88DC-A8A9CD9B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360C9-6E58-418B-A76D-FA50FB8D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32E2E-B1A7-4A2E-85D0-E3D1757E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2421E-C529-4C97-95AF-FA5CE1E4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D98EB-67E9-4BA3-B1C3-94032127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7DF0B-6DA1-4268-8439-5EB0DD18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2F8EE-823B-4B6C-AEC7-1F6EAB5F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3FBE50-68BE-4BBF-911C-9AA3AEEB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DFA-DBA1-4B4B-80D5-06EF3BD4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BADE55-AA07-4DC9-8888-7EEE5004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4120D7-437F-4C97-93DE-B9E01251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C94A6D-022E-4BBB-9181-A7626019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1EFC95-96CF-463A-83B3-DFDD13F0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02D4B7-7048-4C3C-97D0-987EE6A1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001195-4B92-4953-A1EA-B7BE0374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5C4304-5BB8-4B07-A1CF-6C8F50EF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A0A7FC-FA72-44A9-88F4-02053DDB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43E1FB-7D03-490C-B2F2-19D2F15F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D2B016-E06D-4F8C-A8E5-FCEA1B09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DA84-E887-437C-8241-B2E83976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842049-3EDA-4585-9B03-4A8D6B90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7EB4F-964D-4E60-9B5C-9B695F79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EA031-9A7B-4DBE-B346-BE2CFA4C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10514-9F00-4F14-A72F-3F540B91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037A7-E3C5-4777-AFD5-3BD984F1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E1ABF-37FD-44CE-BF9D-C837EDE2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D29C2-DE58-458A-956B-E0C05D74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F612F-58AE-4E8D-9FFA-9FDBE203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A2260-2876-4549-B614-70C3C618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DDB7D-3631-4C3A-BDC0-787A462C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B408-7064-4DF1-8B54-146C7F7A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456C1-2810-42F4-AEB6-2A7AC526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A3C55-9EA2-4340-89E9-55F7F0F1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35B68-2B4C-4983-A747-5B0F2953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29DC6-9E6E-418F-9CB5-D4CA1A74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2FF5B-DCFF-4C5A-9B95-7F8CA02A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4C39D-1380-48D2-BF56-B98EA3D5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D77DA-183E-480B-855A-BA6A5490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9EB66-3433-4E91-90F5-6A6892EC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1BB95-E111-48BD-B15A-AAB2A657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833C3-C74A-45B2-A887-3D25407F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0E17-85EA-4630-8379-1053C7BE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AF6C9-5F98-4EA3-9488-06456D8C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89B8D-593C-4F56-A8BA-4B589EF9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00DB1-92DF-4232-B722-2B1E9900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166AF-26AC-4848-8804-601EB938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25FA3-8E3C-4AF8-BD3B-B58252A4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60E2-9F40-41E7-AB5E-B82B3A89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60E3-D02D-4BDC-9C8D-1D1E95D9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BF25-A93F-44CA-8F43-931C2214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B5AD-DCFF-4D9C-A36E-76DB781A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A252-E9E7-4288-8726-7E2136DD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132-22F3-472B-93A6-D6F42408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174D-6A80-49A9-B9E9-AEE6FFF5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2524-D9C0-4F14-9941-07E017B2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AE5F-6914-49F4-B298-071BF61B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5B97-09EE-47D0-A2E8-884C6878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4484-0BE9-4EA1-B344-D8912FE7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6D247-0E72-4FF6-872B-CFE65FA1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007C8-9BB0-4BEC-B256-3A198F28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1B249-0A02-47D6-B16D-9C9039F9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2AFF4-56E1-4525-B979-46C2C975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8C9BA-A0A9-4473-819C-E950E715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7AB-8AFD-41D6-8C23-A8692973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94B27-7981-4892-9FCE-21F9D1A5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1B0DE-3780-4BB7-9B63-84446C84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55A0B-2B84-4DA7-9F35-9A6EE35C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41258-D577-48AE-8263-B04279CC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F18D8-4F63-435C-AF10-36688C32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9F4B-249F-4DCA-B589-DAFA111D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B45EE-F01E-4F69-9E00-050C7ABB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EAD69-F557-455A-9831-F9157906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D5712-F2A7-478D-A0C5-9D017DE0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C82F0-8C4A-4053-9CDB-AEDFD140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7A1-523A-4165-9820-F88BF87A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20E9C-1A20-464C-800F-1B0436AD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09078-4561-481E-BC99-22DD3FDD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F946B-A132-4370-A14C-A30AA72E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66E48-87A0-4F4A-958B-3A74DE92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43349-CC05-4DE3-8718-2D745014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CED38-AD56-48DD-8C0F-A15713C9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A48D1-9FCE-4E92-B1DC-A6D53F63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C74E8-AF0C-41DB-A681-E66E027A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BF4D6-D6FB-44E1-8522-2242F5A8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5DF142-FEE0-400B-8F14-DBC36781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B07-E93F-4791-A9EE-1729F74C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B9620-246D-4B21-8895-1E1F37BF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13F6D-70E3-4A1B-84AB-183DE9CA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963F79-6A6E-4FFB-9F95-D0E5A92A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E149E-5B30-4FB1-9923-32F862DD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EC27C-4E1E-4F92-85DC-01A1394E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C43768-62B5-4497-A140-B005B6C8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B67B41-1098-41E3-90F6-5870FA08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902EE2-5E1F-4830-8E20-2A8F95A6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11D0E-3CF1-4E48-96CD-0AEF2087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18B76A-0C14-4D99-9829-0A78C4C3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C18-BA64-4787-B94D-E8E1AE78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A92C90-9C46-40BA-B24E-A1BF5957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C1C97-FE51-45A8-AC3D-CC300098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0ADF6-ACB3-44B5-A9C2-534CD369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57C3E-331C-4E6C-AE4B-AABE29C0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FCC87-4625-4641-A368-2575C49D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A8D2C-76E4-4E90-ABF6-73934C5E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DA6C1-A99B-4DAE-AC62-E34D9570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10D65-8690-4ECE-A576-7A3F4B58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5D0B8-35A5-4E83-AFCF-C60C49B4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F0E04-DB3F-4735-81E5-03C3713D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B477-8DA0-46CE-9095-475A9183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87E05-49F6-4902-A6DE-FA79F387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190CF-431D-43D2-A621-1CD81EE6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719C4-7644-434B-BCDB-EF9782A2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E46C5-4867-4D2D-9420-AEA82E52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3D57C-12AC-429C-81AA-84B5A1E1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AEE2D-C3B8-4619-BA47-9626ABC0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412E3-D7C8-4E10-8B0F-E77B9A40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540AF-6916-4961-945D-3194A1E8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FBF95-E31C-49F2-B730-A7C58782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01167-40BD-43C7-B17C-7366E0D6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374-9618-40F4-AB37-2C428709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76C8D-CEEF-4698-B458-D59E11AF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63D16-723F-4BC6-BD60-7B05ACC1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2A73B-873F-4FB6-8FAA-F4246F6F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3CFA4-B0A9-4D8C-97DF-532FA05C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76C3A-C192-4408-B43C-C3C555AE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C9151-A333-4119-AEDC-E6DF984B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E9A0C-73A3-47A2-8362-A0602E0D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5CFA9-37A3-4BDC-B297-C96C1486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EE984-4989-47C3-8125-D123C4BA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3E949-2500-4C1E-8E40-49070EF9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C09-DCCA-4DFA-8772-60811BBF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9EEAB-5D59-4284-81B9-3BE0BBB6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DCE3C-A33D-488B-85AD-79004594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AE1B0-1036-479F-A4AF-CA43E9F0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17F9E-7FAB-4DE7-A982-1214CF22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8463A-A5D3-4B3D-A457-ACE0E062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C1952-2739-4820-9E49-3242BF1E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36365-8E53-4238-BA74-E3726799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7F69A-5D23-463B-8179-C2015F20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4C246-0E25-45A0-823C-DC1D8B49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F487F-5D46-4483-878D-D87C0BC1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A2F3-2C7F-4D2E-8000-9C16B30D826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09EA-BF23-4EF4-B769-4D0AD3ABB6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6461-2CFA-494F-8B70-1B0E0B304EC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661A-4A32-4ED0-9D41-BA0CD1633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889A-4309-4328-8CCA-F09D1D850F1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B70B-E5BD-4E7B-B5DC-C00AB7F0DC5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AC83-6F88-40B0-AB47-F52C9EFDCDC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0C53-9393-46B5-B2E4-BDA9C777272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EC4E-CE17-48DB-BD6C-E32FE1CB586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DAAB-D3FD-49D0-8898-BFBE2C1E4A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EED7-4620-406C-A91A-6A2427ADDD8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BB23-B321-42EE-AE33-D9B2B3EE7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AA86-D5EE-4DD9-921B-93087601195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663F-E648-44B4-8523-A2CB85C97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BE3E-C120-40D7-BC17-4971E77A85F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2C0D-EEF1-4D0E-ABD7-13D2A6BA819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A837-0EFD-4112-831B-B9CCA9620F5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9F17-EC40-4CD8-AC02-37E186ABE56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6743-A541-405E-9EAC-08C0590339D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6451-D1A9-45C0-84DA-BDCC9C463D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A4CF-8018-4150-BA79-0E966F49580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62A2-CBD5-40CC-9833-90CF9733783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BC2C-0434-4A94-80C4-E46DD4B3E75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9F5A-7D20-4A47-8C35-25C0C7324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81F-F6C7-4D76-8FCB-99B5F78FC4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D5241-9684-483B-A30E-80E435F4C56C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F7F61-C8A8-4BD1-8DF8-E57F5409AA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2DD65C9-86CD-475F-9C08-6B6FCE49B630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downRight)" transition="out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2ED8A-0686-4DAD-90DF-8D008B17F261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ECAAA1-36C2-4595-8BF3-19BD52F9038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2E36911-2CA7-4D6C-A4D4-C9BCA9F394C9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A3AAB-3703-4D50-890B-83B3DD4557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894F413-542F-479E-BCEF-0810C1E9E7DA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2D3DE-3913-4E43-BAF4-98B224203DB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4674992A-7FAD-472A-A0BB-66640E9DE46C}" type="datetime1">
              <a:rPr lang="en-US"/>
              <a:t>07/28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