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E51B6-16D3-4FF2-80ED-90FCF537B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EDC63-AE45-4538-B486-4550DCC66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08086-4602-42DD-A370-C38A909E8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91607-6583-4F4C-9DD8-C19E2395D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DEE35-2928-4C7F-91AC-9D7D43FDE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ED720-E29B-49CE-BEFA-AFE49CB2A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EE5CD-1782-453C-A6F7-EF7F68A72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65F16-3DD6-4902-AFD6-204F519A1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21C3F-B7A5-4F1F-AB15-47D095E07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0BA38-947F-4DAA-A564-8CFF630E8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7E464-2378-4D1A-999D-26B0F4F84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A94FE-6674-4507-8A16-2E48F14D2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C7ADE-CF99-4A1E-904F-EC700FCE1BAA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44964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10656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34920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Vertic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Horizont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uble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965680 w 7197480"/>
              <a:gd name="textAreaRight" fmla="*/ 4231800 w 7197480"/>
              <a:gd name="textAreaTop" fmla="*/ 1482840 h 3598560"/>
              <a:gd name="textAreaBottom" fmla="*/ 21157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5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8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16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2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32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148920 h 35985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21:57Z</dcterms:created>
  <dc:creator>tb121644</dc:creator>
  <dc:description/>
  <dc:language>en-US</dc:language>
  <cp:lastModifiedBy>tb121644</cp:lastModifiedBy>
  <dcterms:modified xsi:type="dcterms:W3CDTF">2005-05-25T11:22:14Z</dcterms:modified>
  <cp:revision>1</cp:revision>
  <dc:subject/>
  <dc:title>Slide 1</dc:title>
</cp:coreProperties>
</file>