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4F7DB-95F5-4CF8-BC36-AA9E07335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41E2F-267F-4A54-8D3D-EADFA2C48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4E093-1F42-4D37-BC78-5A9F38ACC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07B59-906D-4195-B8A7-0FEAE1DAC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39691-1CD0-462D-96DD-C18F3DA23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C72FE-8626-4F69-93C7-C4172E3C2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8EF3F-7BDC-4F1A-BA6A-4A520829E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E5180-C44F-4C3F-A5EA-D3E792C6A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98CB7-D138-4A92-A806-A0B36F42F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507A5-711F-4638-A6F3-8B9B502E4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A3134-C62C-4256-88A4-047B94CBD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AD6C4-714B-4EFB-BC01-6AFDC6DB6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8511D-0154-4076-AD98-08D93A002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6B75B-5BDF-4C7A-8CF6-2FA6BF1CC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DDEFF-EC71-41F8-8C92-9BECA86A4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F9A4B-A1D7-4096-B25D-79DA80FC9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997A6-C051-49D4-B55C-E45FCA718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35F93-61D8-49B5-BF27-5D6596441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08A62-3130-41E4-8525-3D204BD7D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CD279-54FA-4DBE-BF0A-8A65F9C98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F962C-4BCF-4C4E-9305-8A12631A5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68AFC-C58A-46A4-BD7F-E100EDAE9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7D032-710C-4714-BF5E-19B31FCC3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4CF01-2F6F-4FD1-A68D-2AE9C551C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23B88-0658-4EB1-84D4-05C1A7CD6608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990720" y="6248520"/>
            <a:ext cx="76975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&lt;footer&gt;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Parallelizing John the Ripper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        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Spring 2004: GCMPS 240A: Project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50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3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349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34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Parallelizing</a:t>
            </a:r>
            <a:br>
              <a:rPr sz="2800"/>
            </a:b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John the Ripper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By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Andy Pippin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Brendon Hall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Wilson Chen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84BAC-A9D4-462B-88A0-F35961F5750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Result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752480" y="2238480"/>
            <a:ext cx="6248520" cy="4187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DC52A-8A47-48DC-B533-E182DC115F3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Conclusion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Achieved nearly linear speedup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Work sharing provides good trade-off between load balancing and complexity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4E67A-512E-4B4C-BAE9-B6C6DA99746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Introduction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urpose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reate a tool for system administrators so they can quickly scan for weak password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Understand how to parallelize existing serial program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D0D42-5184-4DC4-ADA6-3F48F87511D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Password Cracking Method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Brute-forc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Infallible, though time consuming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8 character passwords with 95 different characters = 6 trillion unique password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ictionar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uses pre-defined word lists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possible” password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ules can be incorporated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19636-0205-430A-8F60-1C63E7654A2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Previous Work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ablecrack (SDSC, 1997) and Teracrack (SDSC, 2000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Ryan Lim (UNL, 2003) parallelized John the Ripper (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JtR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) for brute-force attack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 for cracking single password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F7BEF-92AE-4DC0-9E18-DBEB9027B3F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Our Approach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arallelize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JtR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for dictionary style attack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Check for weak passwords quickl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Minimize modifications to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JtR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core cod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oncentrate on an efficient parallel implementati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62F29-F3AB-4034-A3F9-5F4BDA97A16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UNIX Password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972 - NIST wanted a cryptographic algorithm for non-classified informatio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974 - IBM submitted “Lucifer” (128-bit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976 - Data Encryption Standard (56-bit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Widely adopted by industr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un Microsystem’s uses DES in their distributed password scheme: NI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Example of an /etc/passwd entry using DES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user:HFnZbS4XGNtEM:12015:12:John Doe,,,COMS,Graduate:/cs/student/user:/bin/tcsh</a:t>
            </a:r>
            <a:endParaRPr b="0" lang="en-US" sz="11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3574E-D8F4-4124-B39D-39FDB39F5B7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Parallelization Scheme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istribute the Dictionar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less memory, but more coordinatio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istribute the password fil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equires more memory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load balancing issue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assumes every password is of the same difficulty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E95FB-AD64-4AEF-9641-6661ED02F68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Our Method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e ‘Poker Dealer’ (work sharing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hand out encrypted password as required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equires each process to have complete dictionary in memor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passwords with the same salt are given to one processo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0A557-2A4E-41C9-8EA6-3A4E88812F9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Performance Metric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racks/Sec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 reported by </a:t>
            </a:r>
            <a:r>
              <a:rPr b="0" i="1" lang="en-US" sz="1800" spc="-1" strike="noStrike">
                <a:solidFill>
                  <a:srgbClr val="003366"/>
                </a:solidFill>
                <a:latin typeface="Arial"/>
              </a:rPr>
              <a:t>Jt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arallel version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 adds value reported by each worker process, recalculates to account for communication tim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462B5-91F1-4616-B9C8-7D2238708B9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1T21:57:01Z</dcterms:created>
  <dc:creator/>
  <dc:description/>
  <dc:language>en-US</dc:language>
  <cp:lastModifiedBy>Admin</cp:lastModifiedBy>
  <dcterms:modified xsi:type="dcterms:W3CDTF">2004-06-02T06:57:17Z</dcterms:modified>
  <cp:revision>17</cp:revision>
  <dc:subject/>
  <dc:title>Parallelizing "John the Ripper"Ripper"</dc:title>
</cp:coreProperties>
</file>