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A49077-1A8D-4B99-B5CE-5792E8AB0D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AADC38-0FFD-48D3-B12A-BD8C5B7B37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4D7C0-D9E8-4482-8E5C-D19BB72C25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AE6D11-D466-49C0-8D1F-FAB917F6DB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E4D50-3379-4020-9568-A30505607A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469F4C-19BC-48D8-8F75-9BAE0FE095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6F2EA-C7FE-42AF-BEAA-598FAA07FF2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F2D93F-AD65-4DA0-BB9B-E65A8A542E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15CC38-6D2C-4952-96C9-7B1ED5C3319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60F93-9A94-4238-A164-C3EF899837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32CFDC-286B-43E2-82F0-AC75EED2D8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338ED-6DE3-4B65-9DFE-12C1FB4909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4C9D11-EB1F-44A0-8EBE-4960D6B7FBA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is is a test powerpoint 2000 pres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16T02:28:18Z</dcterms:created>
  <dc:creator>David Castro</dc:creator>
  <dc:description/>
  <dc:language>en-US</dc:language>
  <cp:lastModifiedBy>David Castro</cp:lastModifiedBy>
  <dcterms:modified xsi:type="dcterms:W3CDTF">2004-06-16T02:34:45Z</dcterms:modified>
  <cp:revision>2</cp:revision>
  <dc:subject/>
  <dc:title>This is a test powerpoint presentation</dc:title>
</cp:coreProperties>
</file>