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9680" y="-36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672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9680" y="10156680"/>
            <a:ext cx="32763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EDEEC4DE-C432-4CFD-81C7-D2BE9E0A75AE}" type="slidenum"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52" name="PlaceHolder 2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216000" indent="0">
              <a:lnSpc>
                <a:spcPct val="93000"/>
              </a:lnSpc>
              <a:buNone/>
              <a:tabLst>
                <a:tab algn="l" pos="0"/>
                <a:tab algn="l" pos="216000"/>
                <a:tab algn="l" pos="663480"/>
                <a:tab algn="l" pos="1112760"/>
                <a:tab algn="l" pos="1562040"/>
                <a:tab algn="l" pos="2011320"/>
                <a:tab algn="l" pos="2460600"/>
                <a:tab algn="l" pos="2909880"/>
                <a:tab algn="l" pos="3359160"/>
                <a:tab algn="l" pos="3808440"/>
                <a:tab algn="l" pos="4257720"/>
                <a:tab algn="l" pos="4707000"/>
                <a:tab algn="l" pos="5156280"/>
                <a:tab algn="l" pos="5605560"/>
                <a:tab algn="l" pos="6054840"/>
                <a:tab algn="l" pos="6504120"/>
                <a:tab algn="l" pos="6953400"/>
                <a:tab algn="l" pos="7402680"/>
                <a:tab algn="l" pos="7851600"/>
                <a:tab algn="l" pos="8300880"/>
                <a:tab algn="l" pos="8750160"/>
                <a:tab algn="l" pos="919944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0000"/>
                </a:solidFill>
                <a:latin typeface="Arial"/>
                <a:ea typeface="DejaVu Sans"/>
              </a:rPr>
              <a:t>My note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A3102A-D249-438C-BC92-0B38EA0B59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006E2-597C-44EF-AF29-93E17D7C17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27CACD-0B17-4868-8537-B79AE7957E5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38745-56DD-4EB1-B38F-EF13E63C48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D17C-BC45-45EA-9E43-93A0C7E947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452211-1BF5-43CB-B470-0C87966042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CC948-89C8-4597-B659-F40F8DDF6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6565D4-0239-4279-A343-FD3ECD63EC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68360" y="-36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53EC57-4450-4F1A-B790-AFC0706E96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E93702-7E14-459D-BFEE-419029CF63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8A2EEA-11EB-49C3-B2DB-5865A40A96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1832B2-2DA2-496F-94EF-B300B616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4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  <a:defRPr b="0" lang="en-GB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fld id="{90DCE194-94DD-4E9A-BB60-3D1E60148846}" type="slidenum">
              <a:rPr b="0" lang="en-GB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<Relationship Id="rId3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68000" y="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dc2300"/>
                </a:solidFill>
                <a:latin typeface="Arial"/>
              </a:rPr>
              <a:t>Test Slide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93000"/>
              </a:lnSpc>
              <a:spcAft>
                <a:spcPts val="1426"/>
              </a:spcAft>
              <a:buClr>
                <a:srgbClr val="0066cc"/>
              </a:buClr>
              <a:buSzPct val="45000"/>
              <a:buFont typeface="Wingdings" charset="2"/>
              <a:buChar char=""/>
              <a:tabLst>
                <a:tab algn="l" pos="446040"/>
                <a:tab algn="l" pos="895320"/>
                <a:tab algn="l" pos="1344600"/>
                <a:tab algn="l" pos="1793880"/>
                <a:tab algn="l" pos="2243160"/>
                <a:tab algn="l" pos="2692440"/>
                <a:tab algn="l" pos="3141720"/>
                <a:tab algn="l" pos="3591000"/>
                <a:tab algn="l" pos="4040280"/>
                <a:tab algn="l" pos="4489560"/>
                <a:tab algn="l" pos="4938840"/>
                <a:tab algn="l" pos="5388120"/>
                <a:tab algn="l" pos="5837400"/>
                <a:tab algn="l" pos="6286680"/>
                <a:tab algn="l" pos="6735600"/>
                <a:tab algn="l" pos="7184880"/>
                <a:tab algn="l" pos="7634160"/>
                <a:tab algn="l" pos="8083440"/>
                <a:tab algn="l" pos="8532720"/>
                <a:tab algn="l" pos="89820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Arial"/>
              </a:rPr>
              <a:t>This is some tex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chael Trezzi</dc:creator>
  <dc:description>Test Comment</dc:description>
  <cp:keywords>jboss test dna</cp:keywords>
  <dc:language>en-US</dc:language>
  <cp:lastModifiedBy/>
  <cp:revision>0</cp:revision>
  <dc:subject>Test Subject</dc:subject>
  <dc:title>Test Document</dc:title>
</cp:coreProperties>
</file>