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498A927-F017-4BFE-880D-D213C6526D3D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51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Example notes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0DBAE2-95E2-4E88-B3AF-114B6459C49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8CED76-D673-4858-98F9-E9D40238FC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688D58-B31A-4C08-B9A0-EBE065360CF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CCF46-2A47-4675-8A9A-8028BEC473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03A1F-86FE-4EA8-98FC-42018EC6E9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5067AB-D073-46D9-AEA1-4C462A63CC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D812ED-BD48-4D4C-B3C3-43BBC990C4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9EA72A-5901-40A3-BBB9-8E960B9212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B840E-1E06-48FD-ABBC-20DFCD5CDF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73CA7-BA86-476B-ABD8-083E8E88B7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5C7566-9112-4E7D-996E-B8FD9F663C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1834A7-D3A0-44B5-BFD3-2514C9C277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AB7F0E-4C88-43E6-8041-8B7355A189D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is is an example PowerPoint presenta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990360" y="3886200"/>
            <a:ext cx="70866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Made with Microsoft PowerPoint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Christiaan Fluit</dc:creator>
  <dc:description>These are some sample comments.</dc:description>
  <cp:keywords>extractor test rdf</cp:keywords>
  <dc:language>en-US</dc:language>
  <cp:lastModifiedBy>Christiaan Fluit</cp:lastModifiedBy>
  <dcterms:modified xsi:type="dcterms:W3CDTF">2006-02-08T14:52:02Z</dcterms:modified>
  <cp:revision>3</cp:revision>
  <dc:subject>Testing document extractors</dc:subject>
  <dc:title>Example PowerPoint 2000 Presentation</dc:title>
</cp:coreProperties>
</file>