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9AA58-5DBD-4A2F-A7CA-E75F75EAC3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localhost:7080/admin/config/EditDefaults.do?mode=monitor"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2857680" y="514440"/>
            <a:ext cx="3429000" cy="2571840"/>
          </a:xfrm>
          <a:prstGeom prst="rect">
            <a:avLst/>
          </a:prstGeom>
          <a:ln w="0">
            <a:noFill/>
          </a:ln>
        </p:spPr>
      </p:sp>
      <p:sp>
        <p:nvSpPr>
          <p:cNvPr id="12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n overview of how the JBoss Network Enterprise Manager can be used to monitor and control Tomcat servers and their related web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such as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Webex+Training+Module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95480" y="152280"/>
            <a:ext cx="3429000" cy="2571840"/>
          </a:xfrm>
          <a:prstGeom prst="rect">
            <a:avLst/>
          </a:prstGeom>
          <a:ln w="0">
            <a:noFill/>
          </a:ln>
        </p:spPr>
      </p:sp>
      <p:sp>
        <p:nvSpPr>
          <p:cNvPr id="143" name="PlaceHolder 2"/>
          <p:cNvSpPr>
            <a:spLocks noGrp="1"/>
          </p:cNvSpPr>
          <p:nvPr>
            <p:ph type="body"/>
          </p:nvPr>
        </p:nvSpPr>
        <p:spPr>
          <a:xfrm>
            <a:off x="914400" y="2819160"/>
            <a:ext cx="7315200" cy="3886200"/>
          </a:xfrm>
          <a:prstGeom prst="rect">
            <a:avLst/>
          </a:prstGeom>
          <a:noFill/>
          <a:ln w="0">
            <a:noFill/>
          </a:ln>
        </p:spPr>
        <p:txBody>
          <a:bodyPr lIns="90000" rIns="90000" tIns="46800" bIns="46800"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ts now look at the embedded Tomcat server which runs the JBN Enterprise Manager console web application. This provides an excellent example of the metrics which can be collected at the Server and Web Application level.</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select the Tomcat server [Hit the Tomcat Servers link in the nav on the left, then the Tomcat 4.1 server]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is monitoring page shows you metric charts for the Tomcat server itself such as Active Thread Count and Total Processing Time.</a:t>
            </a:r>
            <a:r>
              <a:rPr b="1" lang="en-US" sz="600" spc="-1" strike="noStrike">
                <a:solidFill>
                  <a:srgbClr val="000000"/>
                </a:solidFill>
                <a:latin typeface="Arial"/>
              </a:rPr>
              <a:t>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page also shows the availability of the web apps which run inside the Server. [Highlight Tomcat 4.1 WebApps] If the light is green this means all the web apps are available, if the light is red then at least one of the applications is unavailabl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link takes us to the Auto-Group monitoring page showing combined metrics for all the web apps deployed in the Server.</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croll] Again we have the chart view, this time showing ranges for the data values being displayed, since each web app will be returning its own value. </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metric data tab shows detailed information on all the metrics being collected for these web apps. [Scroll]. The “Number of Collectors” column [Highlight column] indicates how many of the web apps are collecting a particular metric.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You can see here that most of the metrics are being collected for all six of the web apps, but for a single application the Number of requests served is also being collected.</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any particular metric will takes us to a detailed chart showing a breakdown of that metric across all the web applications it is being collected for. [Click on Number of Requests Served per Minute].</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ere we can compare the number of requests served for each of the web apps over time. [Scroll] You can see how the number of requests vary between applications.</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back] This auto-group view is also very useful for configuring which metrics get collected and how frequently. </a:t>
            </a:r>
            <a:endParaRPr b="0" lang="en-US" sz="6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rom the Configure section you can set metric collections intervals in one place that will immediately be applied to each one of the web apps. [Click on Configure] For instance selecting Number of Requests Served and entering an interval of 5minutes will cause this metric to be collected for all 6 web apps every 5 minutes. You can see now the </a:t>
            </a:r>
            <a:r>
              <a:rPr b="0" lang="en-US" sz="800" spc="-1" strike="noStrike">
                <a:solidFill>
                  <a:srgbClr val="000000"/>
                </a:solidFill>
                <a:latin typeface="Arial"/>
              </a:rPr>
              <a:t>Members Collecting attribute changed from SOME to YES indicating that this metric is now being collected for all web applications.</a:t>
            </a:r>
            <a:endParaRPr b="0" lang="en-US" sz="8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Visibility]. Also from this view you can drill down into the metrics for a single application, for instance the JBN Enterprise Manager console itself. [Click on jbnem-portal].</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croll] As with the previous views you can see charts of various metrics over the selected period but here the data is taken from just the console app. </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he Metric tab, Scroll] Similarly in the Metric tab, data on all metrics being collected for this application is displayed.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he Response Time tab] The Response time tab holds statistics on the length of time taken to process each and every URL which has been requested in a given application. [Scroll] As you can see for the console app that can be a lot of individual URLs. Low, average and high figures are calculated for response times as well as how many times a given URL has been requested. This makes it easy to tell which requests in your application are taking the longest time to process.</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response time tab is also available at the auto-group and server levels where it shows response times aggregated per web application.</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57680" y="514440"/>
            <a:ext cx="3429000" cy="2571840"/>
          </a:xfrm>
          <a:prstGeom prst="rect">
            <a:avLst/>
          </a:prstGeom>
          <a:ln w="0">
            <a:noFill/>
          </a:ln>
        </p:spPr>
      </p:sp>
      <p:sp>
        <p:nvSpPr>
          <p:cNvPr id="14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for every other resource administered by the JBN Enterprise Manager, Tomcat Servers and their embedded Services can have alerts defined for them based on their collected metric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instance an alert can be configured to fire if the JVM free memory gets too low on a Tomcat Server or the Number of errors per Minute on a web application goes above a certain leve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an alert is triggered it will be noted on the dashboard of the JBN EM and the Server or Service in question will be marked as a problem resourc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st by themselves these alerts are useful for notifying administrators of problems, however when combined with control actions they provide the capability for the system to manage itself.</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xample, given the JVM free memory alert, a control action could be added to restart the Server whenever that condition occur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ilarly if the Number of errors per Minute on a web application alert fired, a control action to reload the app could be also launch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these facilities utilize the fundamental concepts that are part of the JBN Enterprise Manager. The configuration of alerts and control actions for Tomcat servers follows exactly the same pattern as configuring them for JBoss servers or any other resource in the JBN EM.</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59120" y="514440"/>
            <a:ext cx="3429000" cy="2571840"/>
          </a:xfrm>
          <a:prstGeom prst="rect">
            <a:avLst/>
          </a:prstGeom>
          <a:ln w="0">
            <a:noFill/>
          </a:ln>
        </p:spPr>
      </p:sp>
      <p:sp>
        <p:nvSpPr>
          <p:cNvPr id="14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is presentation we covered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versions of Tomcat are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etrics and control actions are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configure a Tomcat instance in order for it to be monito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seen what sort of monitoring information is collected and how it is aggreg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some examples of how this monitoring information can be combined with the generalized alerting and control framework to provide additional benefit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2862360" y="514440"/>
            <a:ext cx="3429000" cy="2571840"/>
          </a:xfrm>
          <a:prstGeom prst="rect">
            <a:avLst/>
          </a:prstGeom>
          <a:ln w="0">
            <a:noFill/>
          </a:ln>
        </p:spPr>
      </p:sp>
      <p:sp>
        <p:nvSpPr>
          <p:cNvPr id="14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monitoring Tomcat Servers with the JBoss Network Enterprise Manager,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forget, next Tuesday, September 13</a:t>
            </a:r>
            <a:r>
              <a:rPr b="0" lang="en-US" sz="1200" spc="-1" strike="noStrike" baseline="30000">
                <a:solidFill>
                  <a:srgbClr val="000000"/>
                </a:solidFill>
                <a:latin typeface="Arial"/>
              </a:rPr>
              <a:t>th</a:t>
            </a:r>
            <a:r>
              <a:rPr b="0" lang="en-US" sz="1200" spc="-1" strike="noStrike">
                <a:solidFill>
                  <a:srgbClr val="000000"/>
                </a:solidFill>
                <a:latin typeface="Arial"/>
              </a:rPr>
              <a:t> at the same time, we’ll be conducting an in depth presentation on monitoring Apache servers with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2857680" y="514440"/>
            <a:ext cx="3429000" cy="2571840"/>
          </a:xfrm>
          <a:prstGeom prst="rect">
            <a:avLst/>
          </a:prstGeom>
          <a:ln w="0">
            <a:noFill/>
          </a:ln>
        </p:spPr>
      </p:sp>
      <p:sp>
        <p:nvSpPr>
          <p:cNvPr id="12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cover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versions of Tomcat are supported by the JBN Enterprise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metrics get collected for Tomcat and what control actions are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update your Tomcat server so that it can be monitored and controlled by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we’ll show examples of some of the metrics you can view on a Tomcat in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2857680" y="514440"/>
            <a:ext cx="3429000" cy="2571840"/>
          </a:xfrm>
          <a:prstGeom prst="rect">
            <a:avLst/>
          </a:prstGeom>
          <a:ln w="0">
            <a:noFill/>
          </a:ln>
        </p:spPr>
      </p:sp>
      <p:sp>
        <p:nvSpPr>
          <p:cNvPr id="12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an see all recent versions of Tomcat are suppor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 instances embedded inside of JBoss Application Servers are also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Tomcat version requires slightly different configuration changes to be made to it, in order for it to be monitored and controlled by JBN EM. As we shall see later in the presentation the Enterprise Manager makes this easy by providing explicit instructions on what changes need to be made for each ver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2895480" y="228600"/>
            <a:ext cx="3429000" cy="2571840"/>
          </a:xfrm>
          <a:prstGeom prst="rect">
            <a:avLst/>
          </a:prstGeom>
          <a:ln w="0">
            <a:noFill/>
          </a:ln>
        </p:spPr>
      </p:sp>
      <p:sp>
        <p:nvSpPr>
          <p:cNvPr id="131" name="PlaceHolder 2"/>
          <p:cNvSpPr>
            <a:spLocks noGrp="1"/>
          </p:cNvSpPr>
          <p:nvPr>
            <p:ph type="body"/>
          </p:nvPr>
        </p:nvSpPr>
        <p:spPr>
          <a:xfrm>
            <a:off x="456840" y="2895480"/>
            <a:ext cx="8381880" cy="3657600"/>
          </a:xfrm>
          <a:prstGeom prst="rect">
            <a:avLst/>
          </a:prstGeom>
          <a:noFill/>
          <a:ln w="0">
            <a:noFill/>
          </a:ln>
        </p:spPr>
        <p:txBody>
          <a:bodyPr lIns="90000" rIns="90000" tIns="46800" bIns="4680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JBoss Network Enterprise Manager collects many metrics on the Tomcat Server and the services which run inside of i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instance on the Tomcat server itself the Number of Requests Served, JVM and CPU related statistics are collected.</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web applications the metrics include Average Response Time, number of Sessions Created per Minute and Number of errors per Minut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onnectors we have support for three types: http, https and jk. In JBN EM 1.0 auto-discovery of all these connectors can be enabled for a standalone Tomcat instance, however for an embedded Tomcat instance these connectors need to be configured manually. A future release will enable auto-discovery of connectors for Tomcat instances running inside of JBoss.</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etrics for connectors include Bytes Received per Minute and  Bytes Sent per Minut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an individual servlet you can collect statistics such as the Maximum Response Time and the Error Count. In JBN EM 1.0 Servlets are not auto-discovered when the Tomcat instance is imported, therefore each Servlet you are interested in needs to have a Service manually created for it. The decision to not auto-discover Servlets was taken because the number of individual servlets running in a Tomcat Instance could be hug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best way to see what metrics are supported for a given resource is to view the Monitoring Defaults list on the Administration page. Lets go and look at this now:</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we login to the JBN EM Console. (goto http://localhost:7080/)</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irst page you see when you login is the Start page. If you log in as a JBN EM administrator then you will see the Administrative Tools links.</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a:t>
            </a:r>
            <a:r>
              <a:rPr b="0" lang="en-US" sz="600" spc="-1" strike="noStrike" u="sng">
                <a:solidFill>
                  <a:srgbClr val="009999"/>
                </a:solidFill>
                <a:uFillTx/>
                <a:latin typeface="Arial"/>
                <a:hlinkClick r:id="rId1"/>
              </a:rPr>
              <a:t>Manage monitoring defaults</a:t>
            </a:r>
            <a:r>
              <a:rPr b="0" lang="en-US" sz="600" spc="-1" strike="noStrike">
                <a:solidFill>
                  <a:srgbClr val="000000"/>
                </a:solidFill>
                <a:latin typeface="Arial"/>
              </a:rPr>
              <a:t>  link we see all the resources which the JBN Enterprise Manager can monitor. [Scroll down to the bottom]</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ere are the Tomcat related resources [Highlight Tomcat ones]</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omcat 5.0 Webapp] And here are some metrics you can collect on a web application.</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rom this screen you can configure for new resources imported into the JBN EM inventory, whether these metrics are collected, and if so, how frequently they are collected. </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witch Back to PowerPoin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ontrol Actions are supported on Tomcat Servers and Web Applications. The obvious actions are provided, i.e. start and stop, for the Server there is restart and for the web app there is a reload action.</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re are a number of important notes regarding controlling Tomcat Servers.</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If the Tomcat instance is installed on Windows then it will need to have been installed as a Windows Service for its Control Actions to work. If it is being run from startup.bat then the Control Actions will not work.</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nally the control actions only apply to Standalone Tomcat Servers, since for embedded Servers their lifecycle is defined by the starting and stopping of the parent JBoss Application Server instance.</a:t>
            </a:r>
            <a:endParaRPr b="0" lang="en-US" sz="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2857680" y="514440"/>
            <a:ext cx="3429000" cy="2571840"/>
          </a:xfrm>
          <a:prstGeom prst="rect">
            <a:avLst/>
          </a:prstGeom>
          <a:ln w="0">
            <a:noFill/>
          </a:ln>
        </p:spPr>
      </p:sp>
      <p:sp>
        <p:nvSpPr>
          <p:cNvPr id="133"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cess for setting up a Tomcat Server with JBN EM is quite straightforwar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irst step is to install the Tomcat server itself. It is assumed you have already installed a JBN Agent onto the platform which will be hosting the Tomcat instance. If not you will need to consult the JBN Agent installation instruc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Tomcat server is started it is ready to be added to the JBN EM inventory. Do this by running a New Auto-Discovery scan on the platform which the Tomcat instance was installed 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scan has completed you can select to import your Tomcat instance.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the Tomcat server is part of your inventory you can configure it. We will cover this step in detail in the upcoming slide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it has been configured then any web apps or connectors which are running inside the Tomcat server will be discovered and added to the inventory as wel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now make requests against the Tomcat instance as normal, and metrics on these requests will be collected by the JBN Ag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metrics have been collected by the Agent and sent back to the Server they can be viewed through the JBN EM consol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mbedded Tomcat servers can be setup in a very similar way except that obviously the parent JBoss server must be installed and started. Once the Auto-Discovery has run you can decide whether you want to just import the embedded Tomcat server or also want to import its parent JBoss server. </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2857680" y="514440"/>
            <a:ext cx="3429000" cy="2571840"/>
          </a:xfrm>
          <a:prstGeom prst="rect">
            <a:avLst/>
          </a:prstGeom>
          <a:ln w="0">
            <a:noFill/>
          </a:ln>
        </p:spPr>
      </p:sp>
      <p:sp>
        <p:nvSpPr>
          <p:cNvPr id="13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configuration step is the most complicated piece of the setup process and is well documented within the JBN EM console itself. Next we will look at configuring a freshly installed Tomcat server…</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go to the dashboard. [Click on the Dashboard link]</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Here the Tomcat server has already been started and auto-discovered on the platform. The next step is to import it. [Uncheck the other servers, hit import]</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ause]</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ce the import is complete we will go and view the Server in the inventory. [Click on Tomcat Servers in the left nav]</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see the new server in the list, its availability is showing as a question mark since the server has not been configured yet. [Click on the server].</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hen you view the server you will be alerted that it is not configured. Lets go and set it up[Click on the Configuration Properties link]</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 this page you will see the instructions you need to carry out to successfully configure the Tomcat instance. The instructions vary depending on the version of the Tomcat server being used and whether it is embedded inside of JBoss AS. </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 general the changes fall into three steps:</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copy the required the jars to the Tomcat servers common/lib folder, in this case the mx4j-jmx.jar and the hq-filter.jar. [Highlight the two jars]. The jmx jar is used to provide the base classes for accessing Tomcat’s MBean attributes and operations. The filter jar contains all the JBN Enterprise Manager classes which are used to collect the run-time metrics we are interested in e.g. Number of Requests Served and response time for a request. </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step is to deploy the jbnem-monitor web application into the Tomcat instance. [Highlight the web app]. This app is used by the JBN Agent to retrieve the metric information which has been collected on the web applications, connectors and the Tomcat server itself.</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nal step is to update the Tomcat server’s own web.xml so that the JBN Enterprise Manager classes can begin monitoring. [Highlight the chunk of XML.] For instance a servlet filter is configured which maps to all URLs, allowing the response time for every request to be measured. If you have not updated the default web.xml which comes with Tomcat you should just be able to paste the whole chunk of xml into the top of the file. Otherwise if you have added elements such as filters then the different sections of the new xml will have to be added separately making sure to follow the web app DTD.</a:t>
            </a:r>
            <a:endParaRPr b="0" lang="en-US" sz="700" spc="-1" strike="noStrike">
              <a:solidFill>
                <a:srgbClr val="000000"/>
              </a:solidFill>
              <a:latin typeface="Arial"/>
            </a:endParaRPr>
          </a:p>
          <a:p>
            <a:pPr marL="228600" indent="0">
              <a:lnSpc>
                <a:spcPct val="80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turn to Powerpoint</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fter making these changes the tomcat instance must be restarted.</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2857680" y="514440"/>
            <a:ext cx="3429000" cy="2571840"/>
          </a:xfrm>
          <a:prstGeom prst="rect">
            <a:avLst/>
          </a:prstGeom>
          <a:ln w="0">
            <a:noFill/>
          </a:ln>
        </p:spPr>
      </p:sp>
      <p:sp>
        <p:nvSpPr>
          <p:cNvPr id="13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Tomcat server has restarted the following checks should be made to confirm that the updates have been successful.</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is that the response time logs are being generated into the folder you specified in the changes to the web.xml. As you can see from this screenshot in the folder there should be a log file for each deployed web a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857680" y="514440"/>
            <a:ext cx="3429000" cy="2571840"/>
          </a:xfrm>
          <a:prstGeom prst="rect">
            <a:avLst/>
          </a:prstGeom>
          <a:ln w="0">
            <a:noFill/>
          </a:ln>
        </p:spPr>
      </p:sp>
      <p:sp>
        <p:nvSpPr>
          <p:cNvPr id="13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thing to check is that the jbnem-monitor web app is working correctly. There is a link at the bottom of the Edit Configuration page we were just on, which when you click on it should display raw metrics for each of the deployed web app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2857680" y="514440"/>
            <a:ext cx="3429000" cy="2571840"/>
          </a:xfrm>
          <a:prstGeom prst="rect">
            <a:avLst/>
          </a:prstGeom>
          <a:ln w="0">
            <a:noFill/>
          </a:ln>
        </p:spPr>
      </p:sp>
      <p:sp>
        <p:nvSpPr>
          <p:cNvPr id="141"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ve confirmed that the configuration is correct. The final piece is to check the Auto-Discover embedded services box, on the Edit Configuration page and hit the OK button. This will cause the JBN EM to begin monitoring the Tomcat instance and also create services for each connector and web application deployed on that instanc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768C3606-6ABA-424E-8877-075E1335F86B}"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omcat in JBN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review of the features for managing Tomcat and a walk through of the configuration step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mcat Monitoring</a:t>
            </a:r>
            <a:endParaRPr b="0" lang="en-US" sz="3400" spc="-1" strike="noStrike">
              <a:solidFill>
                <a:srgbClr val="000000"/>
              </a:solidFill>
              <a:latin typeface="Verdana"/>
            </a:endParaRPr>
          </a:p>
        </p:txBody>
      </p:sp>
      <p:sp>
        <p:nvSpPr>
          <p:cNvPr id="1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 can be done at a number of  level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instance leve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oup of Web 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Web App.</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includ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gular metrics, e.g # of req’s / mi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ponse times for each URL in an ap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mcat Alerts</a:t>
            </a:r>
            <a:endParaRPr b="0" lang="en-US" sz="3400" spc="-1" strike="noStrike">
              <a:solidFill>
                <a:srgbClr val="000000"/>
              </a:solidFill>
              <a:latin typeface="Verdana"/>
            </a:endParaRPr>
          </a:p>
        </p:txBody>
      </p:sp>
      <p:sp>
        <p:nvSpPr>
          <p:cNvPr id="1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 can be configured on</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Tomcat server itself.</a:t>
            </a:r>
            <a:endParaRPr b="0" lang="en-US" sz="26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bedded services such as web apps or connecto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be combined with control actions, e.g.</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tart server.</a:t>
            </a:r>
            <a:endParaRPr b="0" lang="en-US" sz="26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oad web app.</a:t>
            </a:r>
            <a:endParaRPr b="0" lang="en-US" sz="2600" spc="-1" strike="noStrike">
              <a:solidFill>
                <a:srgbClr val="000000"/>
              </a:solidFill>
              <a:latin typeface="Verdana"/>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2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Tomcat Ver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trics and Control Actions availabl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ing Tomcat for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of monitoring data.</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tilizing the standard alert/control functionalit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23"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versions of Tomcat. </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Control Action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 of Tomcat for JBN EM.</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view of metrics being collecte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versions of Tomcat</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mca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0.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1.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0.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5.x</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Tomcat versions which are embedded into JBoss 3.2.x or 4.0.x are also supported.</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Actions</a:t>
            </a:r>
            <a:endParaRPr b="0" lang="en-US" sz="30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nectors (not for Tomcat 4.0)</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 Start/Stop/Re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 Start/Stop/Reload</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tting up Tomcat in JBN EM</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 are as follow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 Tomcat on a platform and start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un new Auto-Discovery scan on  platform.</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mport the Tomcat instan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Tomcat following the instructions [Web Apps and Connectors will be imported]</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rcise the Tomcat instan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the collected metric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Tomcat</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walkthrough configuration of a web application:</a:t>
            </a:r>
            <a:endParaRPr b="0" lang="en-US" sz="3000" spc="-1" strike="noStrike">
              <a:solidFill>
                <a:srgbClr val="000000"/>
              </a:solidFill>
              <a:latin typeface="Verdana"/>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py the required ja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py the jbnem-monitor web application.</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server’s web.xm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heck Configuration (1)</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ponse time logs are generated.</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4" name="" descr=""/>
          <p:cNvPicPr/>
          <p:nvPr/>
        </p:nvPicPr>
        <p:blipFill>
          <a:blip r:embed="rId1"/>
          <a:stretch/>
        </p:blipFill>
        <p:spPr>
          <a:xfrm>
            <a:off x="2743200" y="2133720"/>
            <a:ext cx="3603600" cy="3619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heck Configuration (2)</a:t>
            </a: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em-monitor web app is working.</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7" name="" descr=""/>
          <p:cNvPicPr/>
          <p:nvPr/>
        </p:nvPicPr>
        <p:blipFill>
          <a:blip r:embed="rId1"/>
          <a:stretch/>
        </p:blipFill>
        <p:spPr>
          <a:xfrm>
            <a:off x="2057400" y="3124080"/>
            <a:ext cx="4495680" cy="3052800"/>
          </a:xfrm>
          <a:prstGeom prst="rect">
            <a:avLst/>
          </a:prstGeom>
          <a:ln w="0">
            <a:noFill/>
          </a:ln>
        </p:spPr>
      </p:pic>
      <p:pic>
        <p:nvPicPr>
          <p:cNvPr id="108" name="" descr=""/>
          <p:cNvPicPr/>
          <p:nvPr/>
        </p:nvPicPr>
        <p:blipFill>
          <a:blip r:embed="rId2"/>
          <a:stretch/>
        </p:blipFill>
        <p:spPr>
          <a:xfrm>
            <a:off x="1143000" y="1752480"/>
            <a:ext cx="6781680" cy="1211400"/>
          </a:xfrm>
          <a:prstGeom prst="rect">
            <a:avLst/>
          </a:prstGeom>
          <a:ln w="0">
            <a:noFill/>
          </a:ln>
        </p:spPr>
      </p:pic>
      <p:sp>
        <p:nvSpPr>
          <p:cNvPr id="109" name=""/>
          <p:cNvSpPr/>
          <p:nvPr/>
        </p:nvSpPr>
        <p:spPr>
          <a:xfrm>
            <a:off x="4724280" y="2286000"/>
            <a:ext cx="83844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 name=""/>
          <p:cNvSpPr/>
          <p:nvPr/>
        </p:nvSpPr>
        <p:spPr>
          <a:xfrm>
            <a:off x="1219320" y="3657600"/>
            <a:ext cx="1066680" cy="1447920"/>
          </a:xfrm>
          <a:custGeom>
            <a:avLst/>
            <a:gdLst>
              <a:gd name="textAreaLeft" fmla="*/ 0 w 1066680"/>
              <a:gd name="textAreaRight" fmla="*/ 1067040 w 1066680"/>
              <a:gd name="textAreaTop" fmla="*/ 0 h 1447920"/>
              <a:gd name="textAreaBottom" fmla="*/ 1448280 h 14479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1" name=""/>
          <p:cNvSpPr/>
          <p:nvPr/>
        </p:nvSpPr>
        <p:spPr>
          <a:xfrm>
            <a:off x="5029200" y="2590920"/>
            <a:ext cx="228600" cy="533160"/>
          </a:xfrm>
          <a:prstGeom prst="downArrow">
            <a:avLst>
              <a:gd name="adj1" fmla="val 50000"/>
              <a:gd name="adj2" fmla="val 58307"/>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Final configuration step</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discover embedded servic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4" name="" descr=""/>
          <p:cNvPicPr/>
          <p:nvPr/>
        </p:nvPicPr>
        <p:blipFill>
          <a:blip r:embed="rId1"/>
          <a:stretch/>
        </p:blipFill>
        <p:spPr>
          <a:xfrm>
            <a:off x="2133720" y="2133720"/>
            <a:ext cx="4849560" cy="3616200"/>
          </a:xfrm>
          <a:prstGeom prst="rect">
            <a:avLst/>
          </a:prstGeom>
          <a:ln w="0">
            <a:noFill/>
          </a:ln>
        </p:spPr>
      </p:pic>
      <p:sp>
        <p:nvSpPr>
          <p:cNvPr id="115" name=""/>
          <p:cNvSpPr/>
          <p:nvPr/>
        </p:nvSpPr>
        <p:spPr>
          <a:xfrm>
            <a:off x="2057400" y="4114800"/>
            <a:ext cx="5029200" cy="533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11-11T04:29:04Z</dcterms:modified>
  <cp:revision>52</cp:revision>
  <dc:subject/>
  <dc:title>GUI Details</dc:title>
</cp:coreProperties>
</file>