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50800" y="24084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50800" y="24084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2709720" y="6583320"/>
            <a:ext cx="414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PRIVILEGED &amp; CONFIDENTIAL. JBoss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67720" y="5951520"/>
            <a:ext cx="1228680" cy="760320"/>
          </a:xfrm>
          <a:prstGeom prst="rect">
            <a:avLst/>
          </a:prstGeom>
          <a:ln w="0">
            <a:noFill/>
          </a:ln>
        </p:spPr>
      </p:pic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0" y="5413320"/>
            <a:ext cx="1622520" cy="145908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 flipV="1">
            <a:off x="538200" y="987840"/>
            <a:ext cx="7772400" cy="5076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-590760" y="6338880"/>
            <a:ext cx="180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09209-FF1A-4811-BC25-37E49F47C073}" type="slidenum">
              <a:rPr b="0" lang="en-US" sz="2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440" y="1647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"/>
          <p:cNvSpPr/>
          <p:nvPr/>
        </p:nvSpPr>
        <p:spPr>
          <a:xfrm flipV="1">
            <a:off x="685800" y="3012120"/>
            <a:ext cx="7772400" cy="5076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527200" y="6553080"/>
            <a:ext cx="440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PRIVILEGED &amp; CONFIDENTIAL, JBoss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0" y="5413320"/>
            <a:ext cx="1622520" cy="14590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4567320" y="336600"/>
            <a:ext cx="4319640" cy="11635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440" y="1647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JBoss Network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560" y="37573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roduc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Gold/Platinum Custom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ventor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dministr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Updat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pgrad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onitoring (Alerts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rovisioning (Workflow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vailability – July 18</a:t>
            </a:r>
            <a:r>
              <a:rPr b="0" lang="en-US" sz="2600" spc="-1" strike="noStrike" baseline="30000">
                <a:solidFill>
                  <a:srgbClr val="000000"/>
                </a:solidFill>
                <a:latin typeface="Verdana"/>
              </a:rPr>
              <a:t>th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Target – testing/doc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icensin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ntrolled by license fil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rocess still being defined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Roadmap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rst release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esting, documentation, abosorb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Release – Octobe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dministration task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C View of monitorin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ine tune JEMS monitorin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BN CSP Releas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etadata(metajizer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ifications workflow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BN Update Servic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chedul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Goa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rojec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BN Overview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BN EM Overview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roduc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oadmap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Backgroun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Goal – Extending Suppor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se Manage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Knowledg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ventor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nitor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dministr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pda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vision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eedback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quirements/feedback – customers, core, support, jboss world, management, boar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ther feedback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ustomers have seen demo of E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re demo of E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MEA CAM demo of E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J1 demo of EM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Two Part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N Customer Service Porta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ase Managemen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Knowledge Tool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ventor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Updat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N Enterprise Manageme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ventor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dministr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onitoring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Updat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rovis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16666" r="0" b="4169"/>
          <a:stretch/>
        </p:blipFill>
        <p:spPr>
          <a:xfrm>
            <a:off x="6172200" y="1676520"/>
            <a:ext cx="2438280" cy="14475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6172200" y="4267080"/>
            <a:ext cx="2457360" cy="16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N CSP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uns at network.jboss.co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No DB – backend salesforc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Will expose services which EM can communicate with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very month new featur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JB 3/Struts, will move to JBoss Porta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N EM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stalls server/agent(s) on customer si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icensed third party software for bas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ooked at a few vendors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lected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rver-agent architectur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rver on JBos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lexible architectur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lready supports JBoss, Apache, Tomcat, …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ource code license with ability to open sourc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heap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rojec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N CSP – Frank Merend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N Updates – Jessica S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N Monitoring – Greg Hinkl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N EM Administr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John Mazzitelli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harles Crou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jit Mandala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N Certification – Mark Luger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N Syndication – Mark Luger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rojec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rivate cv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rivate xwiki for documen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Generated to static html for online customer acces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IRA Projec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Online distribution from network.jboss.co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ternal distribution available at…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ther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BN Overview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BN EM Overview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7T14:53:50Z</dcterms:created>
  <dc:creator>Rich Friedman</dc:creator>
  <dc:description/>
  <dc:language>en-US</dc:language>
  <cp:lastModifiedBy>Rich Friedman</cp:lastModifiedBy>
  <dcterms:modified xsi:type="dcterms:W3CDTF">2005-07-04T23:31:28Z</dcterms:modified>
  <cp:revision>7</cp:revision>
  <dc:subject/>
  <dc:title>Overview</dc:title>
</cp:coreProperties>
</file>