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95158"/>
        <c:axId val="60775142"/>
      </c:barChart>
      <c:catAx>
        <c:axId val="46895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5142"/>
        <c:crosses val="autoZero"/>
        <c:auto val="1"/>
        <c:lblAlgn val="ctr"/>
        <c:lblOffset val="100"/>
        <c:noMultiLvlLbl val="0"/>
      </c:catAx>
      <c:valAx>
        <c:axId val="60775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5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3C8-4CC8-45CB-917E-78C6016D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BBC-F9EA-4D1B-A6F9-CD39DF5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366-F5CD-4639-AB38-88454957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1F6-7A47-4B8F-BF75-50C44695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7A6-D3B2-4BF6-B41F-8077E78C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B6B-87DC-4B27-BD19-28B8C5D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D94-A0B6-4CAB-B20E-E0C5790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BD9-3CB4-4004-9399-0259C68D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5B3-469E-4041-8BCD-2E75AD81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50D-BB5A-4AF1-84EE-27A4DB42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86D-D7E0-41E2-A9C8-CE2EB1D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829-6564-4AFF-A677-7322F10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9DAC3-6A3A-4A5D-BEE5-A0BBFD6F19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