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B727-4686-42BE-92DC-5579B6845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0DB5-AD84-4ACD-A921-E33BCE890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A06D-C887-427D-AB3F-19CDBFD72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F6DA-6787-4427-AFAA-6C923599C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88EF6-26AE-41A6-B6C3-FED1627CD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63549-FC43-4986-A25F-2469A6648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C6934-60E3-4906-82B0-467C90323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34D68-F847-4FFF-9587-4D17AB023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BA900-CA86-4C53-B4A9-C048B4790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8210E-CA9C-4443-8F42-76AB1847D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8C641-04FF-4312-9201-3205D8CD4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4F13-F2BB-427B-918E-EC51F89D1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04191-B52F-4E80-B7A6-F4C45E05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85154-0552-4E4F-95D6-FF3B7CA70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B16C1-DF0E-4524-B0B0-A795B88D2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3482A-CBB3-4DD6-8F12-1ADD9CE40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4521A-302F-42E7-985B-2F51016E0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A188-C5A7-40F9-B02E-8D4D9C468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3ECD-8E34-4E83-A969-CCB678D7F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8445-7BF3-4E43-986E-212335C25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0197-FFDA-4C20-8D49-8B7554AA2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C0C4-1145-4478-A6BA-39113E7F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DF66-6A97-4AD6-A52B-B3C90F3C3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E28A-AAEB-4A33-BE8A-1AFB3306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B0EC5-6B7A-45DF-93B8-1B2A94F7F636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90720" y="6248520"/>
            <a:ext cx="7697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Parallelizing John the Ripper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pring 2004: GCMPS 240A: Project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arallelizing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John the Ripper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ndy Pippi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rendon Hall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Wilson Che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28913-60BE-408C-97A1-CBC626AF9E9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52480" y="2238480"/>
            <a:ext cx="6248520" cy="418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FAD9-9839-4AE3-8207-5727F294D0B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hieved nearly linear speedu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ork sharing provides good trade-off between load balancing and complexity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BC3D-3A09-4C63-83A7-999E664DFFD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urpos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eate a tool for system administrators so they can quickly scan for weak passwo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how to parallelize existing serial progra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ABBF-7AF9-4168-AD5C-8B73755CB9C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ssword Cracking Metho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rute-for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fallible, though time consum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 character passwords with 95 different characters = 6 trillion uniqu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es pre-defined word list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ssible”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ules can be incorpora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6699-254D-493A-A666-EC9E8A5ED93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revious Work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blecrack (SDSC, 1997) and Teracrack (SDSC, 2000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yan Lim (UNL, 2003) parallelized John the Ripper 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 for brute-forc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for cracking singl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244C-9CB2-4A25-AF17-13FA5DE42D9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Approach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iz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 dictionary styl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Check for weak passwords quick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nimize modifications to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ore co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centrate on an efficient parallel implemen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6F33-53A3-46D4-8ADE-1B79B01AF31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NIX Passwor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2 - NIST wanted a cryptographic algorithm for non-classified inform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4 - IBM submitted “Lucifer” (128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6 - Data Encryption Standard (56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idely adopted by indust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n Microsystem’s uses DES in their distributed password scheme: N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ample of an /etc/passwd entry using D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user:HFnZbS4XGNtEM:12015:12:John Doe,,,COMS,Graduate:/cs/student/user:/bin/tcsh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9F64-86B6-48A0-AF60-AB93D5B6FE8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rallelization Schem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ss memory, but more coordin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password fi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more memor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ad balancing issu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ssumes every password is of the same difficulty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B6D4-8451-4137-B1DF-E61B35486B0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Metho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‘Poker Dealer’ (work shar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nd out encrypted password as requir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each process to have complete dictionary in memo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sswords with the same salt are given to one process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ACD2-0183-42BB-ADBE-737DB9BAD23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erformance Metric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acks/Sec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reported by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Jt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 versio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adds value reported by each worker process, recalculates to account for communication ti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7191-5439-4150-B20B-238D8C654D3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21:57:01Z</dcterms:created>
  <dc:creator/>
  <dc:description/>
  <dc:language>en-US</dc:language>
  <cp:lastModifiedBy>Admin</cp:lastModifiedBy>
  <dcterms:modified xsi:type="dcterms:W3CDTF">2004-06-02T06:57:17Z</dcterms:modified>
  <cp:revision>17</cp:revision>
  <dc:subject/>
  <dc:title>Parallelizing "John the Ripper"Ripper"</dc:title>
</cp:coreProperties>
</file>