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-360"/>
            <a:ext cx="91440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**************************************************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AddNode passed : 29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SessionSave passed : 7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RemoveNode passed : 21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CheckIn passed : 9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GetNode passed : 5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RestoreNode passed : 3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SetProperty passed : 9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NodeSave passed : 9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HasNode passed : 4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NodeGetParent passed : 45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NodeGetPath passed : 45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NodeGetName passed : 45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GetRootNode passed : 10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AddMixin passed : 0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Heap Memory Usage (used) : 21205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erations passed, time : 2th day of week, 20:00: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**************************************************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8:31:50Z</dcterms:created>
  <dc:creator>Vetal</dc:creator>
  <dc:description/>
  <dc:language>en-US</dc:language>
  <cp:lastModifiedBy>Vetal</cp:lastModifiedBy>
  <dcterms:modified xsi:type="dcterms:W3CDTF">2006-07-04T08:32:22Z</dcterms:modified>
  <cp:revision>1</cp:revision>
  <dc:subject/>
  <dc:title>Слайд 1</dc:title>
</cp:coreProperties>
</file>