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014062"/>
        <c:axId val="82440693"/>
      </c:barChart>
      <c:catAx>
        <c:axId val="170140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440693"/>
        <c:crosses val="autoZero"/>
        <c:auto val="1"/>
        <c:lblAlgn val="ctr"/>
        <c:lblOffset val="100"/>
        <c:noMultiLvlLbl val="0"/>
      </c:catAx>
      <c:valAx>
        <c:axId val="824406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0140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E408-0E65-4213-98CF-7ED57D14F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CD7E-56C6-420D-81DD-38BBEAB97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EB19-08F9-4863-8D80-CCD4A0581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6449-EC52-4F24-96C4-AA8A144B5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2D6D-9A70-4B9A-BC37-294E75917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1F90-A038-4BD0-8732-84D009428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335B-5788-4378-80A5-47AEAC31C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0D6C-485B-454D-8C52-A3715182A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F71A-CE80-496B-B8B4-2EA90999D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35B9-F878-4298-AC55-8C13935F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F8B5-C22E-44DA-9DBD-0D7E61C4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9941-5984-4D16-BA8C-DF28D633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E2AC5A-FAE0-488B-8962-176FE31F42C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